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1A08-FE9A-4198-AC77-E45B6073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E765-3FAA-420E-8449-BEBBF527E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6D98-430D-437B-8525-603C6ED0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B5C0-B1DE-4D7C-BFD9-46C6358C6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1658-6C13-47D7-ABF5-A3C579AE6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6CF7-B68F-475C-93F1-BC93D4640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CCE-7C4B-436C-B67A-2201CF2E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CD8-2E1E-4491-8A60-B1E54AD4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48F-A8F8-4A6A-AC99-6337C28E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543-FED0-4643-8AEA-6580BE7F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EC6-D126-4BB2-9F68-4C94620F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E8D-E797-468C-832A-A3098A0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D92-4C0B-4506-9D0D-EE382026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384-AA7C-4B2B-A080-9B8E7177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155-CDFC-42C5-AD80-9E54DD4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7A3-9F95-4EC2-901E-78DAB4CA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BEF-6C1E-4234-949F-CD0FA169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5BC-3250-4561-B533-1C7BC32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C6A5-A511-47AB-8F14-06A6A4122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sier Environmental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-based Educatio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lace-based Educ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cess of using the local community and environment as a starting point to teach language arts, mathematics, social studies, science, and other subjects across the curriculum”- David So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quiry-ba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standards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worl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s students in thei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-c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vi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and cooper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use Place-based edu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academic achie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socia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environmental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ill we do “Our Place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21:25Z</dcterms:created>
  <dc:creator>vdoud</dc:creator>
  <dc:description/>
  <dc:language>en-US</dc:language>
  <cp:lastModifiedBy>Valerie Doud</cp:lastModifiedBy>
  <dcterms:modified xsi:type="dcterms:W3CDTF">2009-01-24T01:46:17Z</dcterms:modified>
  <cp:revision>5</cp:revision>
  <dc:subject/>
  <dc:title>Our Place</dc:title>
</cp:coreProperties>
</file>